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BCC-0DC5-4993-AA5E-018BA8AE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E49-ACB5-4D32-9B4C-EB429CE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2C6-961D-40AD-83BD-6D142EF0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0F5-E7E1-4625-9EDB-471AA444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0834-050F-4D7B-A8BD-F59F5C5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749-0884-435E-8AB0-E96538E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E0F-AE9C-4E9B-9B68-0878E60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0599-5C54-4635-867A-85E709E7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3C82-E2E7-4DEE-BB3F-34354E4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ADC6-305F-4F92-9A1D-5B89C2A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BA6-B154-4D82-88A5-C065FFF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709-5BCB-47F7-BAF6-7C84D344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CC7-AC98-4568-B684-BC42EAC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603E-9FDB-4CFE-B8B2-D5E24FD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1F6-9A2F-43C7-B0DC-F18A7DB1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A1CE-7559-49E9-B5D6-95428DB0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2AA5-6C00-4EA7-9BB8-EC9AAA64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68A4-CA9E-4DF8-9B7D-746615BD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4515-6C9C-4DC4-BD95-555334F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63E2-87D3-4B15-9A0D-BAA3CAE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D5D5-BCA8-4FC1-9BB5-A732C42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B9C2-A036-4618-A7E7-B2FCA940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761-11A7-4233-9BD4-79C441C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1D05-2CE6-4A9D-8CD8-69D7638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4164-AA51-4EC5-BE4A-0EEF611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BEE7-CCC7-4DF2-9024-A8F9A4D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3987-5C18-44E9-B2CA-D2E55709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E689-23D3-4E21-B5C8-4180FE3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CE83-BF3A-422C-AFF7-2DC84FB3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A3AE-84D9-42C8-9A1A-EE6A4D14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57DF-8E60-4BA9-89B6-109155EA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47F3-4ECF-46AE-9718-BB96FAB5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5A52-C1AE-4892-B8FA-3FB69160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D08-0E26-4B17-9937-3C0D9C1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4A3B-D8A0-4B6C-849B-C9EC6CD7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C9E7-147A-435C-B3A4-C8EC1AA2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B6E1-2A13-4C06-A5EF-C14087F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2317-6629-49CE-8951-7351750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F6EE-1E41-4795-B31D-60E9554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BA6B-ED46-45BA-AC14-E5D9674A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3B8B-1451-472E-A2BB-DED5FE6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8B76-A07D-4E5E-9634-6DEC46D1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6E7F-147E-4060-9EDF-52560CD3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D7D5-C965-4CC9-AC80-44F4F1E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817-A41C-4EEF-992F-468C6A4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92A5-1101-4F68-80FA-9EB1CFE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FDC5-95E8-4C5E-87B0-6A45BA6B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48AD-49EB-498B-AE76-95284CA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DC32-97D7-40E4-987A-C2CD3BF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FF55-A651-46BB-B81E-4384ABB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C660-BCFB-4747-93E0-380E93A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9041-A25E-49B4-8391-79F3218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F8BE-B636-4B84-B991-7452100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C583D-121B-47C3-9145-8C3B0DC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FCCA-D43A-4744-8164-4919F3F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D8A-2509-406B-92FC-4572CCA4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7075-7290-4BE1-8CD6-0BC54A23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7DBF-3150-4408-86E8-BC1F6CEF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3EEF-9182-4C02-B0D4-BF89EB97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D80F-6441-42BA-8682-8536DA8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8399-759F-4B96-82AA-12074E7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39D4-8F30-423D-BA4E-FC67C3DA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CB01-F575-46B9-8993-AB256FE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4247-941A-463D-A5D0-EFA9F7A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7951-6E95-4B6A-A0DC-59D2DF3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115A-23AC-47C9-A170-6809841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A4A-3694-4E16-99DE-BEF9E5B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D471-66B2-423C-83E6-6004447E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36F1-8650-4B56-84A0-D1DC2D6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05FE-97C9-4E4C-AAAB-F0890481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F06B-AFC4-4396-BFAA-06B2269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33C0-C18B-4866-8C63-8A48F25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2AC4-AB76-4EA1-87BD-B6677A6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1747-F65D-474E-BACA-8B2CF55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75805-5116-4B6D-80B2-BED788AD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C3A5-7F35-4AB3-BB5C-A40FCE7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6848-CA73-419F-B8AA-E5B55B3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C83-E649-48C1-B397-41D890F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79EA5-99A2-4298-A133-D7AFF64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B9AA-595B-4051-8141-E13C27B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7B91-825D-4320-BC8C-B9B1E025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6478-FBDD-43E8-BEA9-FB6756CF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F9B9-D7D8-42AC-A1BD-424D459D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D161D-04DA-480E-85E6-B8A967BA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DDE0-2583-4938-8A88-5CE14E70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36FB-2817-43AB-B71D-4FAF2B6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3F8FE-B283-4B00-9823-9B3610A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E366-AC07-43A6-AE47-39F18B66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168-3575-49AA-9468-CBC363A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D46B-3629-4F68-9E7A-2300A92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7767-C466-4D2D-8CF5-D64D2320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CD0A-11DA-43E9-80C5-F153810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FECC-F57D-4783-B67C-BF73A92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C2A0C-7620-4621-94AD-37AA9D0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55BF-6EDC-4B3A-92F9-28085FD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D3583-FA33-4B12-AAF8-CED4253A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8BD6-4C66-4C15-BE50-913CC26C7DAE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80C9-000F-449D-871E-E94BDE60BCDE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A81-E6C2-4CC8-A4EF-22E617983056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B1B4-1057-4870-81E3-006027CBF286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647E-AC69-4C1C-BC99-8042CE24B1BA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6DAE-EF84-49A2-8CCA-7FDEA7273D8C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9004-2B28-444B-91F2-92B787A70AB5}" type="slidenum">
              <a:rPr b="0" lang="en-N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9CD-5017-4D29-98DB-D45489A83963}" type="slidenum">
              <a:rPr b="0" lang="en-N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464646"/>
                </a:solidFill>
                <a:latin typeface="Lucida Sans Unicode"/>
              </a:rPr>
              <a:t>Or           </a:t>
            </a:r>
            <a:endParaRPr b="0" lang="en-US" sz="4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464646"/>
                </a:solidFill>
                <a:latin typeface="Lucida Sans Unicode"/>
              </a:rPr>
              <a:t>By: Peter Love, Andrew Body, Chen Ding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5000760" y="3500280"/>
            <a:ext cx="1333440" cy="723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571840" y="3500280"/>
            <a:ext cx="1533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857240" y="1076400"/>
            <a:ext cx="5214960" cy="512604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4" descr="Front Page copy.jpg"/>
          <p:cNvPicPr/>
          <p:nvPr/>
        </p:nvPicPr>
        <p:blipFill>
          <a:blip r:embed="rId1"/>
          <a:stretch/>
        </p:blipFill>
        <p:spPr>
          <a:xfrm>
            <a:off x="857160" y="1481040"/>
            <a:ext cx="7715520" cy="4525920"/>
          </a:xfrm>
          <a:prstGeom prst="rect">
            <a:avLst/>
          </a:prstGeom>
          <a:ln w="0">
            <a:noFill/>
          </a:ln>
        </p:spPr>
      </p:pic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3" descr="Bus Timetable final.bmp"/>
          <p:cNvPicPr/>
          <p:nvPr/>
        </p:nvPicPr>
        <p:blipFill>
          <a:blip r:embed="rId1"/>
          <a:stretch/>
        </p:blipFill>
        <p:spPr>
          <a:xfrm>
            <a:off x="714240" y="1481040"/>
            <a:ext cx="7929720" cy="45259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3" descr="350 Dunedin Times Picture.JPG"/>
          <p:cNvPicPr/>
          <p:nvPr/>
        </p:nvPicPr>
        <p:blipFill>
          <a:blip r:embed="rId1"/>
          <a:stretch/>
        </p:blipFill>
        <p:spPr>
          <a:xfrm>
            <a:off x="785880" y="1481040"/>
            <a:ext cx="742932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Content Placeholder 3" descr="Front Page copy.jpg"/>
          <p:cNvPicPr/>
          <p:nvPr/>
        </p:nvPicPr>
        <p:blipFill>
          <a:blip r:embed="rId1"/>
          <a:stretch/>
        </p:blipFill>
        <p:spPr>
          <a:xfrm>
            <a:off x="1143000" y="1127160"/>
            <a:ext cx="6394320" cy="4879800"/>
          </a:xfrm>
          <a:prstGeom prst="rect">
            <a:avLst/>
          </a:prstGeom>
          <a:ln w="0">
            <a:noFill/>
          </a:ln>
        </p:spPr>
      </p:pic>
      <p:pic>
        <p:nvPicPr>
          <p:cNvPr id="37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3" descr="First hand Interview.bmp"/>
          <p:cNvPicPr/>
          <p:nvPr/>
        </p:nvPicPr>
        <p:blipFill>
          <a:blip r:embed="rId1"/>
          <a:stretch/>
        </p:blipFill>
        <p:spPr>
          <a:xfrm>
            <a:off x="428760" y="1481040"/>
            <a:ext cx="82864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Title 2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551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Scrum Screenshot.bmp"/>
          <p:cNvPicPr/>
          <p:nvPr/>
        </p:nvPicPr>
        <p:blipFill>
          <a:blip r:embed="rId1"/>
          <a:stretch/>
        </p:blipFill>
        <p:spPr>
          <a:xfrm>
            <a:off x="642960" y="1481040"/>
            <a:ext cx="792972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ontent Placeholder 3" descr="Front Page copy.jpg"/>
          <p:cNvPicPr/>
          <p:nvPr/>
        </p:nvPicPr>
        <p:blipFill>
          <a:blip r:embed="rId1"/>
          <a:stretch/>
        </p:blipFill>
        <p:spPr>
          <a:xfrm>
            <a:off x="1143000" y="1127160"/>
            <a:ext cx="6394320" cy="4879800"/>
          </a:xfrm>
          <a:prstGeom prst="rect">
            <a:avLst/>
          </a:prstGeom>
          <a:ln w="0">
            <a:noFill/>
          </a:ln>
        </p:spPr>
      </p:pic>
      <p:pic>
        <p:nvPicPr>
          <p:cNvPr id="381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ontent Placeholder 3" descr="Caramelldansen.bmp"/>
          <p:cNvPicPr/>
          <p:nvPr/>
        </p:nvPicPr>
        <p:blipFill>
          <a:blip r:embed="rId1"/>
          <a:stretch/>
        </p:blipFill>
        <p:spPr>
          <a:xfrm>
            <a:off x="571680" y="1481040"/>
            <a:ext cx="8143560" cy="4525920"/>
          </a:xfrm>
          <a:prstGeom prst="rect">
            <a:avLst/>
          </a:prstGeom>
          <a:ln w="0">
            <a:noFill/>
          </a:ln>
        </p:spPr>
      </p:pic>
      <p:pic>
        <p:nvPicPr>
          <p:cNvPr id="383" name="Title 2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Left Arrow 15"/>
          <p:cNvSpPr/>
          <p:nvPr/>
        </p:nvSpPr>
        <p:spPr>
          <a:xfrm>
            <a:off x="3500280" y="4786200"/>
            <a:ext cx="57168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Market Details.bmp"/>
          <p:cNvPicPr/>
          <p:nvPr/>
        </p:nvPicPr>
        <p:blipFill>
          <a:blip r:embed="rId1"/>
          <a:stretch/>
        </p:blipFill>
        <p:spPr>
          <a:xfrm>
            <a:off x="928800" y="1481040"/>
            <a:ext cx="7358040" cy="4525920"/>
          </a:xfrm>
          <a:prstGeom prst="rect">
            <a:avLst/>
          </a:prstGeom>
          <a:ln w="0">
            <a:noFill/>
          </a:ln>
        </p:spPr>
      </p:pic>
      <p:pic>
        <p:nvPicPr>
          <p:cNvPr id="38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143000" y="1446120"/>
            <a:ext cx="7429680" cy="43894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285920" y="1382760"/>
            <a:ext cx="6357960" cy="456876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1:45:06Z</dcterms:created>
  <dc:creator>default-user</dc:creator>
  <dc:description/>
  <dc:language>en-US</dc:language>
  <cp:lastModifiedBy>lovepj1</cp:lastModifiedBy>
  <dcterms:modified xsi:type="dcterms:W3CDTF">2009-11-17T20:09:01Z</dcterms:modified>
  <cp:revision>15</cp:revision>
  <dc:subject/>
  <dc:title>Welcome to</dc:title>
</cp:coreProperties>
</file>